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699-C6C6-4268-8DCF-242D3404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F0C-34D4-4F38-9CF0-01C5434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D34-9467-4796-B1B4-107E30AF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431-ABB3-42EA-82CC-8FBDFC64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5CF-C695-4C5A-A4A2-9D505D4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40F-AD60-4578-89C2-E310FB6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BC4-7D22-4F13-AB64-E222F972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D23-A37C-46AF-8D82-C670B6B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AE9-372A-4CB4-B1BB-2C89109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039-03BF-49D8-9F07-D8FDBAF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2D8-02D0-4028-ADCB-8A2F0F0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7EC-A875-4343-B57C-915EFE8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B44-FEDD-490A-8E26-64B98A03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Jo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segurança,a falta de dialo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os pais a pressão para que o menino jamais negue o sexo, ou o preconceito que uma menina carrega uma camisinha na bolsa pode sofrer.....São muitos os fatores que tornam os adolecentes tão vulneraveis a epidemia...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7:59:19Z</dcterms:created>
  <dc:creator>Escola</dc:creator>
  <dc:description/>
  <dc:language>en-US</dc:language>
  <cp:lastModifiedBy>Escola</cp:lastModifiedBy>
  <dcterms:modified xsi:type="dcterms:W3CDTF">2010-04-06T18:12:41Z</dcterms:modified>
  <cp:revision>2</cp:revision>
  <dc:subject/>
  <dc:title> Jovens</dc:title>
</cp:coreProperties>
</file>